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D96-31A5-4703-9303-B06070AB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ABB-7E01-495D-A332-C019E748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2CC-382B-452D-80D4-F4E2C6DE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BD5-C1BE-41D7-9321-E1A78FCE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8D6-2105-41FA-945F-8F6C6511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2C9-EA8E-4BFC-B3ED-AC6717EE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148-EC3F-4C72-81BB-8A0805B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081-C1EA-4783-BE68-9C33C860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332-AD87-4874-9C23-8262E9BA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C74-33F6-43A8-8CEB-DFC79293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F55-8D1C-42CE-B502-D761348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918-28DD-48E4-8144-38C5D81F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10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5C3E-ADC8-4CE3-9996-401BA979A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10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28600"/>
            <a:ext cx="18414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BJ &amp; Ernie's Favorit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LD Cool"/>
              <a:ea typeface="LD Coo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Travel Photo Op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LD Cool"/>
              <a:ea typeface="LD Coo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00600" y="274320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40280" y="0"/>
            <a:ext cx="191772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05520" y="7831080"/>
            <a:ext cx="1752480" cy="1312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139068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460600" y="2819520"/>
            <a:ext cx="135252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819520"/>
            <a:ext cx="127476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124080" y="4700520"/>
            <a:ext cx="1676520" cy="113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239840" y="2819520"/>
            <a:ext cx="139536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057400" y="685800"/>
            <a:ext cx="2895480" cy="217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2206800" y="6095880"/>
            <a:ext cx="134604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676520" y="7772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1447920" y="4700520"/>
            <a:ext cx="2133360" cy="142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0" y="4724280"/>
            <a:ext cx="1428840" cy="175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3505320" y="6781680"/>
            <a:ext cx="169200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3505320" y="5735520"/>
            <a:ext cx="167616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0" y="7686720"/>
            <a:ext cx="194472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4800600" y="4267080"/>
            <a:ext cx="2057400" cy="1516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3809880" y="2514600"/>
            <a:ext cx="100008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0" y="6097680"/>
            <a:ext cx="2209680" cy="181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5181480" y="56386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5181480" y="6858000"/>
            <a:ext cx="16765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0:52:55Z</dcterms:created>
  <dc:creator>BJ and Ernie Diller</dc:creator>
  <dc:description/>
  <dc:language>en-US</dc:language>
  <cp:lastModifiedBy>BJ and Ernie Diller</cp:lastModifiedBy>
  <dcterms:modified xsi:type="dcterms:W3CDTF">2008-02-17T23:14:54Z</dcterms:modified>
  <cp:revision>1</cp:revision>
  <dc:subject/>
  <dc:title>PowerPoint Presentation</dc:title>
</cp:coreProperties>
</file>