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4DD-7953-4FB5-9E6F-23FA7904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DF0-144C-4149-BF8A-C2259CD7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9F2-69B9-474E-B8FE-695B4272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6C8-255D-4756-85AB-7716D7CE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572-612E-467C-806A-CBA21DA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530-7F53-49DE-AB2B-E1C280AF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DF9-918A-4B74-9A0B-FAFB9954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9D1-3FAE-4CE1-996C-0F78F2C0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D38-54A1-4FFF-A437-4F0915D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5CA-612A-4D8F-BD75-EE45496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3A5-EC1A-46CB-A3C4-F7B69FD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89B-E191-478E-92E6-7F06CA0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16C-300A-4AFA-8390-115118D3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28600"/>
            <a:ext cx="1841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BJ &amp; Ernie's Favori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Travel Photo Op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40280" y="0"/>
            <a:ext cx="19177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783108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139068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460600" y="28195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124080" y="4700520"/>
            <a:ext cx="1676520" cy="113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239840" y="2819520"/>
            <a:ext cx="13953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057400" y="68580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206800" y="6095880"/>
            <a:ext cx="13460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676520" y="7772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47920" y="4700520"/>
            <a:ext cx="2133360" cy="142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4724280"/>
            <a:ext cx="142884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3505320" y="6781680"/>
            <a:ext cx="1692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05320" y="5735520"/>
            <a:ext cx="167616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0" y="768672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4800600" y="4267080"/>
            <a:ext cx="2057400" cy="151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3809880" y="251460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0" y="609768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181480" y="56386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5181480" y="6858000"/>
            <a:ext cx="167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52:55Z</dcterms:created>
  <dc:creator>BJ and Ernie Diller</dc:creator>
  <dc:description/>
  <dc:language>en-US</dc:language>
  <cp:lastModifiedBy>BJ and Ernie Diller</cp:lastModifiedBy>
  <dcterms:modified xsi:type="dcterms:W3CDTF">2008-02-17T23:14:54Z</dcterms:modified>
  <cp:revision>1</cp:revision>
  <dc:subject/>
  <dc:title>PowerPoint Presentation</dc:title>
</cp:coreProperties>
</file>