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919-038C-4BC5-A561-0BBC056B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A19-CD00-46A9-843C-0502CD51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B39-EEDA-436C-B6FD-D8B47550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A07-A0CC-4761-8530-CC68546E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CE3-01E9-46A8-AACC-EA692A17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61C-E7EC-4590-BCF7-B0A5940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0EC-7353-47AB-8C91-C1237BDC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F1B-2ED1-4406-A0D4-F6A3A1B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74D-5155-42BD-B4D0-BADFF046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64A-FB47-47C2-A4B7-D7B38BB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380-F599-4D17-94AE-83377E5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C63-DDE0-4BFD-BF98-FFF194A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0F06-914F-4B9F-B472-66696CDA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28600"/>
            <a:ext cx="1841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BJ &amp; Ernie's Favorit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Travel Photo Op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274320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40280" y="0"/>
            <a:ext cx="19177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783108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139068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460600" y="28195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819520"/>
            <a:ext cx="127476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124080" y="4700520"/>
            <a:ext cx="1676520" cy="113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239840" y="2819520"/>
            <a:ext cx="13953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057400" y="68580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206800" y="6095880"/>
            <a:ext cx="13460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676520" y="7772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447920" y="4700520"/>
            <a:ext cx="2133360" cy="142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0" y="4724280"/>
            <a:ext cx="142884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3505320" y="6781680"/>
            <a:ext cx="16920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505320" y="5735520"/>
            <a:ext cx="167616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0" y="768672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4800600" y="4267080"/>
            <a:ext cx="2057400" cy="151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3809880" y="2514600"/>
            <a:ext cx="100008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0" y="6097680"/>
            <a:ext cx="2209680" cy="181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181480" y="56386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5181480" y="6858000"/>
            <a:ext cx="1676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0:52:55Z</dcterms:created>
  <dc:creator>BJ and Ernie Diller</dc:creator>
  <dc:description/>
  <dc:language>en-US</dc:language>
  <cp:lastModifiedBy>BJ and Ernie Diller</cp:lastModifiedBy>
  <dcterms:modified xsi:type="dcterms:W3CDTF">2008-02-17T23:14:54Z</dcterms:modified>
  <cp:revision>1</cp:revision>
  <dc:subject/>
  <dc:title>PowerPoint Presentation</dc:title>
</cp:coreProperties>
</file>