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77A2-6331-470F-8302-036C002EF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3E78-0DC6-41AB-BAD5-8AD3036FC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BE17-C465-4851-BD07-7470D2CF7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3B5F-5C01-49A7-8BED-3AAD468D9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36D3-6F6D-4497-A37E-189E2508A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8EA8-5B17-444C-A239-8EC1B36F3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8785-C3E1-4406-8DC5-1C9FF59FA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FF29-4D47-4C7E-8A89-8C8303E15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1A7B-0843-467D-999C-635F4FF04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E6E5-8C60-4F5A-8311-A790D89D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1069-18F2-48B0-809D-1EDA50F3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DA5C-D405-4E1E-AD5B-B7C23D2FA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10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01098-EAEC-433A-8185-0EC4123D08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10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590920" y="228600"/>
            <a:ext cx="1841400" cy="457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LD Cool"/>
              </a:rPr>
              <a:t>BJ &amp; Ernie's Favorite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LD Cool"/>
              <a:ea typeface="LD Coo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LD Cool"/>
              </a:rPr>
              <a:t> </a:t>
            </a: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LD Cool"/>
              </a:rPr>
              <a:t>Travel Photo Ops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LD Cool"/>
              <a:ea typeface="LD Coo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-57240"/>
            <a:ext cx="2057400" cy="15433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800600" y="2743200"/>
            <a:ext cx="2057400" cy="15415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940280" y="0"/>
            <a:ext cx="1917720" cy="2895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105520" y="7831080"/>
            <a:ext cx="1752480" cy="1312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0" y="1390680"/>
            <a:ext cx="2057400" cy="15429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2460600" y="2819520"/>
            <a:ext cx="1352520" cy="19047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0" y="2819520"/>
            <a:ext cx="1274760" cy="19047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3124080" y="4700520"/>
            <a:ext cx="1676520" cy="1130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1239840" y="2819520"/>
            <a:ext cx="1395360" cy="19047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0"/>
          <a:stretch/>
        </p:blipFill>
        <p:spPr>
          <a:xfrm>
            <a:off x="2057400" y="685800"/>
            <a:ext cx="2895480" cy="2170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1"/>
          <a:stretch/>
        </p:blipFill>
        <p:spPr>
          <a:xfrm>
            <a:off x="2206800" y="6095880"/>
            <a:ext cx="1346040" cy="1981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2"/>
          <a:stretch/>
        </p:blipFill>
        <p:spPr>
          <a:xfrm>
            <a:off x="1676520" y="777240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3"/>
          <a:stretch/>
        </p:blipFill>
        <p:spPr>
          <a:xfrm>
            <a:off x="1447920" y="4700520"/>
            <a:ext cx="2133360" cy="1422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4"/>
          <a:stretch/>
        </p:blipFill>
        <p:spPr>
          <a:xfrm>
            <a:off x="0" y="4724280"/>
            <a:ext cx="1428840" cy="1752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5"/>
          <a:stretch/>
        </p:blipFill>
        <p:spPr>
          <a:xfrm>
            <a:off x="3505320" y="6781680"/>
            <a:ext cx="1692000" cy="2362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6"/>
          <a:stretch/>
        </p:blipFill>
        <p:spPr>
          <a:xfrm>
            <a:off x="3505320" y="5735520"/>
            <a:ext cx="1676160" cy="12351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7"/>
          <a:stretch/>
        </p:blipFill>
        <p:spPr>
          <a:xfrm>
            <a:off x="0" y="7686720"/>
            <a:ext cx="1944720" cy="1457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8"/>
          <a:stretch/>
        </p:blipFill>
        <p:spPr>
          <a:xfrm>
            <a:off x="4800600" y="4267080"/>
            <a:ext cx="2057400" cy="15163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9"/>
          <a:stretch/>
        </p:blipFill>
        <p:spPr>
          <a:xfrm>
            <a:off x="3809880" y="2514600"/>
            <a:ext cx="1000080" cy="22096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0"/>
          <a:stretch/>
        </p:blipFill>
        <p:spPr>
          <a:xfrm>
            <a:off x="0" y="6097680"/>
            <a:ext cx="2209680" cy="18158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1"/>
          <a:stretch/>
        </p:blipFill>
        <p:spPr>
          <a:xfrm>
            <a:off x="5181480" y="5638680"/>
            <a:ext cx="1676520" cy="12556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2"/>
          <a:stretch/>
        </p:blipFill>
        <p:spPr>
          <a:xfrm>
            <a:off x="5181480" y="6858000"/>
            <a:ext cx="1676520" cy="9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20:52:55Z</dcterms:created>
  <dc:creator>BJ and Ernie Diller</dc:creator>
  <dc:description/>
  <dc:language>en-US</dc:language>
  <cp:lastModifiedBy>BJ and Ernie Diller</cp:lastModifiedBy>
  <dcterms:modified xsi:type="dcterms:W3CDTF">2008-02-17T23:14:54Z</dcterms:modified>
  <cp:revision>1</cp:revision>
  <dc:subject/>
  <dc:title>PowerPoint Presentation</dc:title>
</cp:coreProperties>
</file>